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DF4-D8B5-4577-BCA2-7C1F7B70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2D9-B192-4D9E-85DC-DD912993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9B1-F296-41D3-A79B-42BEAC4E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DD1-D684-43BC-88E7-A2731EC7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20A-F623-4602-8175-8939EF9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DE1-A3A3-407A-84B5-D429B724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5B0-60FC-4924-8D4A-B7C58EC8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6F4-2FAA-41E2-8571-F2659949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500-25C8-46D6-B1F6-CFF0C97A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7AC-FE0C-4105-8ED7-05667F5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3E7-F169-4D4C-A791-5FFACE91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C6B-7CAC-459B-9F48-B225CAA4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615A-15AE-46FE-B42F-76D820181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Graph Laplacians and Stabilisation of Vehicle Formations </a:t>
            </a:r>
            <a:br>
              <a:rPr sz="4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July 27,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837720"/>
            <a:ext cx="6324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. Alex Fax, Richard M. Mu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5029200"/>
            <a:ext cx="6324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chael Höge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aderborn, 1-8-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9D9-1CD3-4A4C-94AE-4CFF0AB9A4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34320" y="-595080"/>
            <a:ext cx="1752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adjacency matrix A of Graph G is a matrix of shape #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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#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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wit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=1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arc (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 in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=0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fine a Matrix D of shape #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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x#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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= in-degree(v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= 0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fine the Laplacian Matrix L of Graph G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 :=  I – D</a:t>
            </a:r>
            <a:r>
              <a:rPr b="1" lang="de-DE" sz="2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Eigenvalues of L are related to structural properties of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BA1-BCCB-43E3-92B3-E947EA7A9E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86600" y="-701640"/>
            <a:ext cx="1371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asic properties of L with respect to 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. 0 is always Eigenvalue of L with Eigenvector e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. The spectrum of L lies within the Gershgorin disc of radius 1 in </a:t>
            </a:r>
            <a:r>
              <a:rPr b="0" lang="de-DE" sz="2400" spc="-1" strike="noStrike">
                <a:solidFill>
                  <a:srgbClr val="000000"/>
                </a:solidFill>
                <a:latin typeface="Mathematica7"/>
                <a:ea typeface="Mathematica7"/>
              </a:rPr>
              <a:t>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centered in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. If G is M-periodic there exist M Eigenvalues on the boundary of latter disc with an angular spacing 2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/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4. If G is aperiodic the Spectrum lies within the open disc around 1 with radius 1.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CD4-2909-4C04-A461-4EE8E40F67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4. Stabilisation of Vehicle 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Theorem 1: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 local controller K(s) stabilizes the total system 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f and only if the control law K(s): (y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imultaniously stabilizes the 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‘ = A x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+B u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= C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 the Eigenvalues 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f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ystem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16292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5A5-F526-4F9D-8EF5-741F588213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72040" y="-3047760"/>
            <a:ext cx="68580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dea of the pro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y Schur transformation of L, substitution of x and and a simple matrix identity you can achieve an upper triangular system, so that the stability of the system depends of the diagonal systems where the Eigenvalues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7AF-91DD-4829-9354-3EFE3DAAFD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95720" y="-2080440"/>
            <a:ext cx="76212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problem as information flow diagram for each 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/>
          <p:nvPr/>
        </p:nvCxnSpPr>
        <p:spPr>
          <a:xfrm flipV="1">
            <a:off x="5486040" y="1904400"/>
            <a:ext cx="2896200" cy="3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/>
          <p:nvPr/>
        </p:nvCxnSpPr>
        <p:spPr>
          <a:xfrm>
            <a:off x="990360" y="2057400"/>
            <a:ext cx="144828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428560" y="1784520"/>
            <a:ext cx="378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/>
          <p:nvPr/>
        </p:nvCxnSpPr>
        <p:spPr>
          <a:xfrm flipV="1">
            <a:off x="2819160" y="1904400"/>
            <a:ext cx="756360" cy="3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581280" y="18288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6"/>
            <a:endCxn id="89" idx="1"/>
          </p:cNvCxnSpPr>
          <p:nvPr/>
        </p:nvCxnSpPr>
        <p:spPr>
          <a:xfrm flipV="1">
            <a:off x="3885840" y="1940760"/>
            <a:ext cx="964440" cy="2520"/>
          </a:xfrm>
          <a:prstGeom prst="bentConnector3">
            <a:avLst>
              <a:gd name="adj1" fmla="val 498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876560" y="1708200"/>
            <a:ext cx="58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endCxn id="91" idx="3"/>
          </p:cNvCxnSpPr>
          <p:nvPr/>
        </p:nvCxnSpPr>
        <p:spPr>
          <a:xfrm flipH="1">
            <a:off x="5430600" y="1981080"/>
            <a:ext cx="894240" cy="799200"/>
          </a:xfrm>
          <a:prstGeom prst="bentConnector3">
            <a:avLst>
              <a:gd name="adj1" fmla="val -45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042160" y="2546280"/>
            <a:ext cx="375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1"/>
            <a:endCxn id="87" idx="4"/>
          </p:cNvCxnSpPr>
          <p:nvPr/>
        </p:nvCxnSpPr>
        <p:spPr>
          <a:xfrm rot="10800000">
            <a:off x="3733200" y="2057400"/>
            <a:ext cx="1296000" cy="72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 rot="5400000">
            <a:off x="5561640" y="2666880"/>
            <a:ext cx="2210400" cy="686520"/>
          </a:xfrm>
          <a:prstGeom prst="bentConnector3">
            <a:avLst>
              <a:gd name="adj1" fmla="val 99201"/>
            </a:avLst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5822280" y="3841920"/>
            <a:ext cx="473040" cy="510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endCxn id="96" idx="3"/>
          </p:cNvCxnSpPr>
          <p:nvPr/>
        </p:nvCxnSpPr>
        <p:spPr>
          <a:xfrm rot="5400000">
            <a:off x="5407200" y="3126240"/>
            <a:ext cx="3663000" cy="1220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846760" y="5334120"/>
            <a:ext cx="7095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4" idx="1"/>
          </p:cNvCxnSpPr>
          <p:nvPr/>
        </p:nvCxnSpPr>
        <p:spPr>
          <a:xfrm rot="10800000">
            <a:off x="5104800" y="4037760"/>
            <a:ext cx="686520" cy="37440"/>
          </a:xfrm>
          <a:prstGeom prst="bentConnector3">
            <a:avLst>
              <a:gd name="adj1" fmla="val 50000"/>
            </a:avLst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6" idx="1"/>
            <a:endCxn id="99" idx="3"/>
          </p:cNvCxnSpPr>
          <p:nvPr/>
        </p:nvCxnSpPr>
        <p:spPr>
          <a:xfrm flipV="1" rot="10800000">
            <a:off x="5130720" y="5565960"/>
            <a:ext cx="643320" cy="122400"/>
          </a:xfrm>
          <a:prstGeom prst="bentConnector3">
            <a:avLst>
              <a:gd name="adj1" fmla="val 498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4546440" y="3708360"/>
            <a:ext cx="559080" cy="92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9360" y="5334120"/>
            <a:ext cx="503640" cy="9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4572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0" idx="1"/>
            <a:endCxn id="101" idx="0"/>
          </p:cNvCxnSpPr>
          <p:nvPr/>
        </p:nvCxnSpPr>
        <p:spPr>
          <a:xfrm flipV="1" rot="10800000">
            <a:off x="3809160" y="4062960"/>
            <a:ext cx="737280" cy="508680"/>
          </a:xfrm>
          <a:prstGeom prst="bentConnector2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9" idx="1"/>
            <a:endCxn id="101" idx="4"/>
          </p:cNvCxnSpPr>
          <p:nvPr/>
        </p:nvCxnSpPr>
        <p:spPr>
          <a:xfrm rot="10800000">
            <a:off x="3809160" y="5029200"/>
            <a:ext cx="762840" cy="66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1" idx="2"/>
          </p:cNvCxnSpPr>
          <p:nvPr/>
        </p:nvCxnSpPr>
        <p:spPr>
          <a:xfrm rot="10800000">
            <a:off x="3199680" y="4799880"/>
            <a:ext cx="3816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2525400" y="4527720"/>
            <a:ext cx="58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</p:cNvCxnSpPr>
          <p:nvPr/>
        </p:nvCxnSpPr>
        <p:spPr>
          <a:xfrm rot="10800000">
            <a:off x="1599480" y="3656880"/>
            <a:ext cx="899280" cy="110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414440" y="3156120"/>
            <a:ext cx="40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/>
          <p:nvPr/>
        </p:nvCxnSpPr>
        <p:spPr>
          <a:xfrm flipV="1" rot="16200000">
            <a:off x="1059120" y="2597400"/>
            <a:ext cx="1099440" cy="183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409840" y="3200400"/>
            <a:ext cx="365040" cy="510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1040" y="3200400"/>
            <a:ext cx="365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endCxn id="109" idx="2"/>
          </p:cNvCxnSpPr>
          <p:nvPr/>
        </p:nvCxnSpPr>
        <p:spPr>
          <a:xfrm flipH="1" flipV="1" rot="5400000">
            <a:off x="2405520" y="3851640"/>
            <a:ext cx="372240" cy="2160"/>
          </a:xfrm>
          <a:prstGeom prst="bentConnector3">
            <a:avLst>
              <a:gd name="adj1" fmla="val 49951"/>
            </a:avLst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10" idx="0"/>
          </p:cNvCxnSpPr>
          <p:nvPr/>
        </p:nvCxnSpPr>
        <p:spPr>
          <a:xfrm flipH="1" flipV="1" rot="5400000">
            <a:off x="876960" y="2476800"/>
            <a:ext cx="610200" cy="837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9" idx="0"/>
          </p:cNvCxnSpPr>
          <p:nvPr/>
        </p:nvCxnSpPr>
        <p:spPr>
          <a:xfrm flipV="1" rot="16200000">
            <a:off x="1829160" y="2436840"/>
            <a:ext cx="610200" cy="916560"/>
          </a:xfrm>
          <a:prstGeom prst="bentConnector2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4048560" y="1454040"/>
            <a:ext cx="39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28880" y="2336760"/>
            <a:ext cx="35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57280" y="1498680"/>
            <a:ext cx="35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4920" y="5035680"/>
            <a:ext cx="33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z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flipH="1" rot="16200000">
            <a:off x="1865880" y="4838400"/>
            <a:ext cx="686520" cy="610200"/>
          </a:xfrm>
          <a:prstGeom prst="bentConnector3">
            <a:avLst>
              <a:gd name="adj1" fmla="val 1008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2589480" y="5213520"/>
            <a:ext cx="33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3"/>
            <a:endCxn id="101" idx="3"/>
          </p:cNvCxnSpPr>
          <p:nvPr/>
        </p:nvCxnSpPr>
        <p:spPr>
          <a:xfrm flipV="1">
            <a:off x="2943360" y="4961880"/>
            <a:ext cx="705240" cy="484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150000" y="4419720"/>
            <a:ext cx="39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de-DE" sz="18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r>
              <a:rPr b="0" lang="de-DE" sz="1800" spc="-1" strike="noStrike">
                <a:solidFill>
                  <a:srgbClr val="ff0000"/>
                </a:solidFill>
                <a:latin typeface="Verdana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840" y="434988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43840" y="1454040"/>
            <a:ext cx="375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 flipH="1" flipV="1">
            <a:off x="3733560" y="3351960"/>
            <a:ext cx="1753200" cy="686520"/>
          </a:xfrm>
          <a:prstGeom prst="bentConnector3">
            <a:avLst>
              <a:gd name="adj1" fmla="val -1067"/>
            </a:avLst>
          </a:prstGeom>
          <a:ln w="9360">
            <a:solidFill>
              <a:srgbClr val="3333cc"/>
            </a:solidFill>
            <a:miter/>
          </a:ln>
        </p:spPr>
      </p:cxnSp>
      <p:cxnSp>
        <p:nvCxnSpPr>
          <p:cNvPr id="125" name=""/>
          <p:cNvCxnSpPr/>
          <p:nvPr/>
        </p:nvCxnSpPr>
        <p:spPr>
          <a:xfrm flipV="1" rot="10800000">
            <a:off x="2590200" y="3351600"/>
            <a:ext cx="114372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3333cc"/>
            </a:solidFill>
            <a:miter/>
          </a:ln>
        </p:spPr>
      </p:cxnSp>
      <p:cxnSp>
        <p:nvCxnSpPr>
          <p:cNvPr id="126" name=""/>
          <p:cNvCxnSpPr/>
          <p:nvPr/>
        </p:nvCxnSpPr>
        <p:spPr>
          <a:xfrm flipH="1">
            <a:off x="761400" y="5713920"/>
            <a:ext cx="4648680" cy="610200"/>
          </a:xfrm>
          <a:prstGeom prst="bentConnector3">
            <a:avLst>
              <a:gd name="adj1" fmla="val -2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61760" y="3657600"/>
            <a:ext cx="1080" cy="26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5332680" y="4070520"/>
            <a:ext cx="331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de-DE" sz="18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FA8-F0B9-42AB-A724-0798749C65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43800" y="-1669680"/>
            <a:ext cx="9144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e you can see that y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nd 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togeth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go into the 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nd i.e. the u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 prudent controller design could now be to split the system into two isolated probl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. An </a:t>
            </a:r>
            <a:r>
              <a:rPr b="0" lang="de-DE" sz="2400" spc="-1" strike="noStrike">
                <a:solidFill>
                  <a:srgbClr val="3333cc"/>
                </a:solidFill>
                <a:latin typeface="Verdana"/>
              </a:rPr>
              <a:t>inn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feedback circle for yi in order to stabilize the total system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. An outer feedback circle for zi in order to obtain the formation stabil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ssumptions for the remainder of the tex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.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=0 i.e. yi=0, which means that there exists only an outer feedback circ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. The system matrix A has no Eigenvalues on the open RHP in </a:t>
            </a:r>
            <a:r>
              <a:rPr b="0" lang="de-DE" sz="2400" spc="-1" strike="noStrike">
                <a:solidFill>
                  <a:srgbClr val="000000"/>
                </a:solidFill>
                <a:latin typeface="Mathematica7"/>
                <a:ea typeface="Mathematica7"/>
              </a:rPr>
              <a:t>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6ED-8DA3-4CC4-A2C9-9012A30497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62920" y="-816480"/>
            <a:ext cx="1295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 the simplified problem has following information 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 flipV="1">
            <a:off x="5562360" y="2202840"/>
            <a:ext cx="2896200" cy="3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1066680" y="2355840"/>
            <a:ext cx="1448640" cy="21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2504520" y="2082960"/>
            <a:ext cx="378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/>
          <p:nvPr/>
        </p:nvCxnSpPr>
        <p:spPr>
          <a:xfrm flipV="1">
            <a:off x="2895120" y="2202840"/>
            <a:ext cx="756360" cy="3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3657600" y="212724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7" idx="6"/>
            <a:endCxn id="139" idx="1"/>
          </p:cNvCxnSpPr>
          <p:nvPr/>
        </p:nvCxnSpPr>
        <p:spPr>
          <a:xfrm flipV="1">
            <a:off x="3962520" y="2239200"/>
            <a:ext cx="964080" cy="2520"/>
          </a:xfrm>
          <a:prstGeom prst="bentConnector3">
            <a:avLst>
              <a:gd name="adj1" fmla="val 49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952520" y="2006640"/>
            <a:ext cx="58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endCxn id="141" idx="3"/>
          </p:cNvCxnSpPr>
          <p:nvPr/>
        </p:nvCxnSpPr>
        <p:spPr>
          <a:xfrm flipH="1">
            <a:off x="5506200" y="2279520"/>
            <a:ext cx="894600" cy="799200"/>
          </a:xfrm>
          <a:prstGeom prst="bentConnector3">
            <a:avLst>
              <a:gd name="adj1" fmla="val -45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118120" y="2844720"/>
            <a:ext cx="375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1"/>
            <a:endCxn id="137" idx="4"/>
          </p:cNvCxnSpPr>
          <p:nvPr/>
        </p:nvCxnSpPr>
        <p:spPr>
          <a:xfrm rot="10800000">
            <a:off x="3809160" y="2355840"/>
            <a:ext cx="1296360" cy="72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endCxn id="144" idx="3"/>
          </p:cNvCxnSpPr>
          <p:nvPr/>
        </p:nvCxnSpPr>
        <p:spPr>
          <a:xfrm rot="5400000">
            <a:off x="6168960" y="3049560"/>
            <a:ext cx="2900880" cy="1220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227640" y="4876920"/>
            <a:ext cx="7095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4" idx="1"/>
            <a:endCxn id="146" idx="3"/>
          </p:cNvCxnSpPr>
          <p:nvPr/>
        </p:nvCxnSpPr>
        <p:spPr>
          <a:xfrm flipV="1" rot="10800000">
            <a:off x="5333400" y="5108760"/>
            <a:ext cx="821160" cy="2088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802760" y="4775040"/>
            <a:ext cx="503640" cy="9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48704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1"/>
            <a:endCxn id="147" idx="6"/>
          </p:cNvCxnSpPr>
          <p:nvPr/>
        </p:nvCxnSpPr>
        <p:spPr>
          <a:xfrm rot="10800000">
            <a:off x="4114800" y="5098320"/>
            <a:ext cx="660600" cy="3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7" idx="2"/>
          </p:cNvCxnSpPr>
          <p:nvPr/>
        </p:nvCxnSpPr>
        <p:spPr>
          <a:xfrm rot="10800000">
            <a:off x="3276000" y="5098320"/>
            <a:ext cx="3816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601720" y="4826160"/>
            <a:ext cx="58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</p:cNvCxnSpPr>
          <p:nvPr/>
        </p:nvCxnSpPr>
        <p:spPr>
          <a:xfrm rot="10800000">
            <a:off x="1675800" y="3955320"/>
            <a:ext cx="899280" cy="110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1490760" y="3454560"/>
            <a:ext cx="40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/>
          <p:nvPr/>
        </p:nvCxnSpPr>
        <p:spPr>
          <a:xfrm flipV="1" rot="16200000">
            <a:off x="1135440" y="2895840"/>
            <a:ext cx="1099440" cy="1800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657000" y="3498840"/>
            <a:ext cx="365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0"/>
          </p:cNvCxnSpPr>
          <p:nvPr/>
        </p:nvCxnSpPr>
        <p:spPr>
          <a:xfrm flipH="1" flipV="1" rot="5400000">
            <a:off x="953280" y="2775240"/>
            <a:ext cx="610200" cy="837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4124880" y="1752480"/>
            <a:ext cx="39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05200" y="2635200"/>
            <a:ext cx="35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33600" y="1797120"/>
            <a:ext cx="35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03920" y="4648320"/>
            <a:ext cx="33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z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/>
          <p:nvPr/>
        </p:nvCxnSpPr>
        <p:spPr>
          <a:xfrm flipH="1" rot="16200000">
            <a:off x="1942920" y="5136480"/>
            <a:ext cx="686520" cy="610560"/>
          </a:xfrm>
          <a:prstGeom prst="bentConnector3">
            <a:avLst>
              <a:gd name="adj1" fmla="val 1008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665440" y="5511960"/>
            <a:ext cx="33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47" idx="3"/>
          </p:cNvCxnSpPr>
          <p:nvPr/>
        </p:nvCxnSpPr>
        <p:spPr>
          <a:xfrm flipV="1">
            <a:off x="3019320" y="5260320"/>
            <a:ext cx="705240" cy="484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226320" y="4718160"/>
            <a:ext cx="39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de-DE" sz="18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r>
              <a:rPr b="0" lang="de-DE" sz="1800" spc="-1" strike="noStrike">
                <a:solidFill>
                  <a:srgbClr val="ff0000"/>
                </a:solidFill>
                <a:latin typeface="Verdana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9160" y="464832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de-DE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0160" y="1752480"/>
            <a:ext cx="375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/>
          <p:nvPr/>
        </p:nvCxnSpPr>
        <p:spPr>
          <a:xfrm flipH="1" flipV="1" rot="5400000">
            <a:off x="-269640" y="5062680"/>
            <a:ext cx="2216880" cy="252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rot="10800000">
            <a:off x="837360" y="6247800"/>
            <a:ext cx="4953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/>
          <p:nvPr/>
        </p:nvCxnSpPr>
        <p:spPr>
          <a:xfrm rot="5400000">
            <a:off x="5271840" y="5699880"/>
            <a:ext cx="1067760" cy="3060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108-6E35-4647-8AED-28D7DEAECD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67480" y="-1334520"/>
            <a:ext cx="99072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ontrol engineering the state space system as considered here will be transformed by the laplace operator, which means the you obtain a system of algebraic equations with analogous information flow diagra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ecificially the solving of a differential equation for an open loop system is equivalent to the multiplication of the input with a transfer function G, which is of following form for general linear systems of our ca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G(s) = C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 (sI–A)</a:t>
            </a:r>
            <a:r>
              <a:rPr b="1" lang="de-DE" sz="28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D63-ED9C-40F9-BAAD-145B3D21BD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38520" y="-1036800"/>
            <a:ext cx="121932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Theorem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s the open-loop transfer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(s) = C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(s–A)</a:t>
            </a:r>
            <a:r>
              <a:rPr b="1" lang="de-DE" sz="2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B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 SISO-syste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.e. ui, yi and G are have dim 1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net encirclement of all -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by the Nyquist plot K(i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G(i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 for 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de-DE" sz="2400" spc="-1" strike="noStrike">
                <a:solidFill>
                  <a:srgbClr val="000000"/>
                </a:solidFill>
                <a:latin typeface="Mathematica7"/>
                <a:ea typeface="Mathematica7"/>
              </a:rPr>
              <a:t>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for all nonzero Eigenvalues 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f L is ze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n K(s) stabilizes the relative formation dynam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dea of the pro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pplication of the control engineering Nyquist stability criterion upon the N resulting systems in Theorem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6A9-DFB6-43CF-98D7-F8E41D7A15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62920" y="-739800"/>
            <a:ext cx="12952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cu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ne of various versions of the Nyquist criterion in control engineering holds for a system of following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closed loop system is stable if the range of the imaginary axis by the controlled open-loop transfer function K(s)G(s) intersects the negative real axis right of –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/>
          <p:nvPr/>
        </p:nvCxnSpPr>
        <p:spPr>
          <a:xfrm>
            <a:off x="914040" y="4920840"/>
            <a:ext cx="1585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2514600" y="4680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3"/>
          </p:cNvCxnSpPr>
          <p:nvPr/>
        </p:nvCxnSpPr>
        <p:spPr>
          <a:xfrm>
            <a:off x="3428640" y="4912920"/>
            <a:ext cx="76284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4251240" y="4714920"/>
            <a:ext cx="930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3"/>
          </p:cNvCxnSpPr>
          <p:nvPr/>
        </p:nvCxnSpPr>
        <p:spPr>
          <a:xfrm>
            <a:off x="5181120" y="4947840"/>
            <a:ext cx="297252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V="1" rot="16200000">
            <a:off x="1713960" y="5142960"/>
            <a:ext cx="1372320" cy="991080"/>
          </a:xfrm>
          <a:prstGeom prst="bentConnector3">
            <a:avLst>
              <a:gd name="adj1" fmla="val -4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 flipV="1" rot="10800000">
            <a:off x="2894760" y="4952520"/>
            <a:ext cx="3506040" cy="1372320"/>
          </a:xfrm>
          <a:prstGeom prst="bentConnector3">
            <a:avLst>
              <a:gd name="adj1" fmla="val 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5B7-3752-4857-A85E-2DBEE81B4C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-Content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blem 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Laplacian Matrix of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bilisation of Vehicle 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amples of Location of Laplacian Eigen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590-F7E6-4166-8F9E-972565854F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01000" y="-539388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yquist criterion (applied version her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closed loop system is stable if the number of counter-clockwise encirclements of –1 by the range of the open-loop transfer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(i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G(i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 is equal to the number of RHP poles of G(s) for all nonzero 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is is equivalent to the first version of the criterion if you know that the poles of G(s) are the Eigenvalues of A that were assumed to be zero earli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0D7-BDBD-4C05-9F0E-F1E0813261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67480" y="-1410120"/>
            <a:ext cx="99072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rgumentation of the pro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f now the N-1 Nyquist plots of 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(i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G(i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 does not effect a CCW encirclement of –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n equivalently the single Nyquist plot of K(i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G(i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 doesn‘t effect this for all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de-DE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508-548A-4460-B5E0-ABC353CCA7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924680" y="-3756240"/>
            <a:ext cx="53352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f G(s) is a MIMO, that means a matrix of form 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 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rewrite the Eigenvalues of L in  following form 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= 1+ 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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ider bounds M: |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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| </a:t>
            </a:r>
            <a:r>
              <a:rPr b="0" lang="de-DE" sz="2400" spc="-1" strike="noStrike">
                <a:solidFill>
                  <a:srgbClr val="000000"/>
                </a:solidFill>
                <a:latin typeface="Mathematica3Mono"/>
                <a:ea typeface="Mathematica3Mono"/>
              </a:rPr>
              <a:t>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de-DE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for all nonzero 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f you close the loop you obtain as closed loop transfer function (shape: quadratic matr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(s) = G(s)K(s)(I + K(s)G(s)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Theorem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(s) stabilizes the MIMO formation G(s)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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(C(i</a:t>
            </a:r>
            <a:r>
              <a:rPr b="1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))&lt;M</a:t>
            </a:r>
            <a:r>
              <a:rPr b="1" lang="de-DE" sz="2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 all </a:t>
            </a:r>
            <a:r>
              <a:rPr b="0" lang="de-DE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de-DE" sz="2400" spc="-1" strike="noStrike">
                <a:solidFill>
                  <a:srgbClr val="000000"/>
                </a:solidFill>
                <a:latin typeface="Mathematica7"/>
                <a:ea typeface="Mathematica7"/>
              </a:rPr>
              <a:t>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is seems to be clear according to a paper of Zhou and Doyle about robustness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A37-2A4C-42CA-8F97-3E6983C19A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5. Location of Laplacian Eigen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ow does formation structure affect on Eigenvalue placem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1. Complet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completeGraph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91" name="Lcomplete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274320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6B7-7D1D-4AAD-AFF6-9A97BA9BD3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43800" y="-1707120"/>
            <a:ext cx="9144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67080" y="304920"/>
            <a:ext cx="4191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e the Eigenvalues are 0 and N-1 times 1+1/(N-1) rep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2. Acyclic Graph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is is the leader-follower-scen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only Eigenvalue is 1 N times rep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not every vertice is tail of at least one arc, thus no 0 eigenvalue). It´s excluded in our case because of the nonzero in-degre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acyclicGraph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95" name="Lacyclic2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9E5-0447-4F76-9BAA-53554D7E45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05560" y="-53564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3.Two cyclic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uch a graph is undirected thus the Eigenvalues are all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gen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2CycleGraph3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2666880" cy="3505320"/>
          </a:xfrm>
          <a:prstGeom prst="rect">
            <a:avLst/>
          </a:prstGeom>
          <a:ln w="0">
            <a:noFill/>
          </a:ln>
        </p:spPr>
      </p:pic>
      <p:pic>
        <p:nvPicPr>
          <p:cNvPr id="199" name="EV2cyclic2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4343400" cy="385920"/>
          </a:xfrm>
          <a:prstGeom prst="rect">
            <a:avLst/>
          </a:prstGeom>
          <a:ln w="0">
            <a:noFill/>
          </a:ln>
        </p:spPr>
      </p:pic>
      <p:pic>
        <p:nvPicPr>
          <p:cNvPr id="200" name="L2cyclic2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3657600" cy="21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DD0-2A98-4087-93EA-FBEAB15657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152920" y="-543204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4. Single directed cyclic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e the Eigenvalues lie on the boundary of the Gershgorin disc around 1 with radius 1 at e</a:t>
            </a:r>
            <a:r>
              <a:rPr b="0" lang="de-DE" sz="2400" spc="-1" strike="noStrike" baseline="30000">
                <a:solidFill>
                  <a:srgbClr val="000000"/>
                </a:solidFill>
                <a:latin typeface="Verdana"/>
              </a:rPr>
              <a:t>j(i-1)/2</a:t>
            </a:r>
            <a:r>
              <a:rPr b="0" lang="de-DE" sz="2400" spc="-1" strike="noStrike" baseline="30000">
                <a:solidFill>
                  <a:srgbClr val="000000"/>
                </a:solidFill>
                <a:latin typeface="Mathematica1"/>
                <a:ea typeface="Mathematica1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m-periodicGraph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204" name="Lperiodic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6095880" cy="25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AC3-141F-48BF-988B-9474DACBCC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4840" y="-1151640"/>
            <a:ext cx="114300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Qualitatively and heuristic statement of the auth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ider as two extr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. the complete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almost all Eigenvalues in one singl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oc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maximal mixing rat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4. the single directed cyc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remember acyclic l-f-graphs are excluded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maximal dispersion of the Eigen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very low information mi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 can „see“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eigenvalue placement seems to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 do with the mixing rate of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16E-EF2E-4418-9993-8E89A764E4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29600" y="-3832920"/>
            <a:ext cx="53352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uristic arg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the first case the influence of one single vehicle´s dynamics are quickly averaged out, because of the high conn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the second case the cycle induces periodic forcing that will never be averaged 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968-552A-4A42-A3ED-0CBFF54338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924680" y="-3756240"/>
            <a:ext cx="53352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 word about linear controller desig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re are three commonly used control la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.Proportional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(s)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= 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utpu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= 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.Differential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(s)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= 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utpu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= 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de/d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quick re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.Integral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(s) = Ki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utput = 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memory eff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fehlerIntegral" descr=""/>
          <p:cNvPicPr/>
          <p:nvPr/>
        </p:nvPicPr>
        <p:blipFill>
          <a:blip r:embed="rId1"/>
          <a:stretch/>
        </p:blipFill>
        <p:spPr>
          <a:xfrm>
            <a:off x="3200400" y="5334120"/>
            <a:ext cx="969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BF9-F273-433C-8381-2B4A821772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.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tting: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 flock of vehicles (e.g. satellites)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as only passive sensing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formatio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mong each 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te: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 the moment some results ar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nown for leader-follower models,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.e. the sensing information graph is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 acyclic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low disturbance 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over-reliance on a single veh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global information of the graph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2B6-5EA2-4522-811C-C5EF2654D0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77320" y="-5508720"/>
            <a:ext cx="380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6-vehicl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(s) = exp(-s T)/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xed PD-control la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(s) = 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+ 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f we now add one sen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ctor 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65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we can s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at the Eigen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f tend more to the imagi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xis and become more i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beispielGraph2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5" name="GraphS4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75B-A12C-4B1E-8299-6D9E97875A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first graph has two 3-cycles and two 2-cycl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reason for this loss of stability seems to lie in the fact that a new 3 cycle is cr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1A3-F834-499F-9D6D-ABC8FFBC7E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complete graph would be optimal for the formation stabilis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ut if the graph is not complete, the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more sensing the better it is.“ is wro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re is no rule given in the paper what formation is optimal, but it seems to be positive to avoid cycles wherever pos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is is not the ultimate answer for the graph design but you have a stability criterion in order to check if a given sensing graph together with a given control law is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837720" y="228240"/>
            <a:ext cx="3962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6.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658-EA63-4A55-90F2-9C1A2F7FF1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010280" y="-739800"/>
            <a:ext cx="144792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343-9D57-43EB-83AF-614BBA76EC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72040" y="-3047760"/>
            <a:ext cx="68580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dea: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owing more interconnection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ologies and trying to obtain loca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riteria for the relative formation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bilisation.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raphS4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AB2-BA16-4BE3-817D-69D3C176DF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2. Problem 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N vehicles with identical dynamics and their N linear control problems: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‘ = A x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+ B u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bsolute state mesurement y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f vehicle i: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= C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nsing vector 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f the sensed vehicle j by vehicle i, where Ji c {1..N}\{i} is the set of sensed vehicles by vehicle i (nonempty!).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= C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(x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-x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                  (3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292-69A3-4FE4-A8B6-C769646BA4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orming the #Ji signal vectors 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to a single signal vector zi: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= (z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+..+z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#J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)/#J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ow define a linear control law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(s): (y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,z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u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y solving a linear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‘ = F v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+ G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+G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z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:= H v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+ J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+J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z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5" idx="2"/>
          </p:cNvCxnSpPr>
          <p:nvPr/>
        </p:nvCxnSpPr>
        <p:spPr>
          <a:xfrm>
            <a:off x="6172200" y="2476440"/>
            <a:ext cx="5342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7" idx="0"/>
          </p:cNvCxnSpPr>
          <p:nvPr/>
        </p:nvCxnSpPr>
        <p:spPr>
          <a:xfrm flipH="1">
            <a:off x="6743520" y="2209320"/>
            <a:ext cx="17150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7" idx="6"/>
            <a:endCxn id="59" idx="1"/>
          </p:cNvCxnSpPr>
          <p:nvPr/>
        </p:nvCxnSpPr>
        <p:spPr>
          <a:xfrm flipH="1">
            <a:off x="6419160" y="2933640"/>
            <a:ext cx="36252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791320" y="21477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458200" y="21330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895480"/>
            <a:ext cx="1371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59760" y="2362320"/>
            <a:ext cx="464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84000" y="2422440"/>
            <a:ext cx="464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4720" y="3489480"/>
            <a:ext cx="388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21477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342-9F54-49E3-8F6E-B3695B9071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 a nxn-Matrix A define  another matrix of shape Nn x Nn by N times repeating A along the diag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°:=diag(N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serting the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2)&amp;(3) in (6) this in (1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3) in (4) together with (2) in (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th x = (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..,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, v = (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..,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, n = dim(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livers the total system in two equ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x‘ = A°x+(BJ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)°x+(BJ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)° Lx+(BH)°v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‘ = F°v+(G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)°x+(G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)° Lx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779-B564-4028-8E7E-4BFB25DA6D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3960" y="-892800"/>
            <a:ext cx="15238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r together as one combined system (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th L containing the relative sensing information of the Ji in following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i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= -1/#J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j in J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= 0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(n)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:=(Lij*I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(n)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f shape nN x 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otalsystem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2012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488-CFA3-44CC-861C-B132DF1167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3. The Laplacian Matrix of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 Graph G=(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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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 consists of a set of vertices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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nd a set of arcs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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 each arc a=(v,w) v,w in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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re called tail and head resp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in-degree of a vertex v is the number of arcs with tail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manded Properties of 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. Uniqueness of each arc a=(v,w) in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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. No loops (v,v) in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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. The in-degree of all vertices is at least 1.</a:t>
            </a: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61A-51E7-4FA7-A97F-74816F8539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1T12:47:31Z</dcterms:created>
  <dc:creator>michael hoegele</dc:creator>
  <dc:description/>
  <dc:language>en-US</dc:language>
  <cp:lastModifiedBy>michael hoegele</cp:lastModifiedBy>
  <dcterms:modified xsi:type="dcterms:W3CDTF">2004-04-21T18:36:38Z</dcterms:modified>
  <cp:revision>11</cp:revision>
  <dc:subject/>
  <dc:title>Graph Laplacians and Stabilisation of Vehicle Formations  (July 27, 2001)</dc:title>
</cp:coreProperties>
</file>